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B20-5698-42B4-9C6A-604A7B3E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9E9-AC3B-48E6-AF85-A1D25253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B6B-F7EE-43A0-8B47-1247833F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F1F-69AB-436C-895F-812797C3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C55-26DC-4323-903D-50088A6B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C5F-3311-43E2-873A-6857601B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709-96BD-44CF-A425-49EC3503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F2A-042A-4236-8309-CD5D10F6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1B7-6EF4-413A-A92B-6BAA48AA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221-0DA2-42BD-8137-55F44253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A67-7D36-40AA-A480-FB9D31B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30D-03C8-422F-9BFE-F011AF96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626E-0DA4-404C-8311-4C5DBCAE1C4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1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1 REVI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14200" y="1582560"/>
            <a:ext cx="8286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ut the verb in the participle form indicated (all nom. mas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ραφω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ιε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φιλε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ογιζ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ροσευχ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700600" y="23130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ψ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700600" y="281952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ου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715000" y="331308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ομε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715000" y="3830760"/>
            <a:ext cx="278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α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715000" y="43578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ισαμε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715000" y="4857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υχομενο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42920" y="1357200"/>
            <a:ext cx="350028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αλλ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ωνησα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ρχομεναι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μψα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ιωξαντ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δοντω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πιζουσα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γειραντα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εχομενο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643120" y="205740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Active Masculine Plural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643120" y="25113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Singular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643120" y="294624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Deponent Feminine Plural D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43120" y="338760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Neuter Singula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643120" y="383076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Neuter Singular D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643120" y="428616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Neuter Genitive Pl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643120" y="47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Active Feminine Singular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43120" y="518472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Plural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2643120" y="56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Deponent Masculine Plural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3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14200" y="1508040"/>
            <a:ext cx="57866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οιγω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Fem. Acc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ιε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Masc. Nom.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ηρυσσ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Neut. Gen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ἁπτομαι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asc. Dat.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Neut. Nom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ιστευ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Fem. Acc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6215040" y="23130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ου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215040" y="28162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215040" y="3313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αντ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215040" y="383076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πτομεν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215040" y="43434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θον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15040" y="4834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α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4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14200" y="1214280"/>
            <a:ext cx="54295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θων ἐθεραπευσεν αὐτ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ναβαινων εἰδεν το πνευμ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υγοντες ἠλθον εἰς ἱερ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απτιζεν τους πονηρ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ετανοησαντ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πομεν τοις ἐρχομενοις τεκνο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λεψατε τους γραμματε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σελθοντας εἰς το ἱερ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429080" y="1969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he had come, he healed h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429080" y="24652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ile he was going up, he saw the spir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429080" y="338760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y fled, they went into a te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429080" y="388764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baptizing the wicked people who had repen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429080" y="480708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e spoke to the children as they c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429080" y="528336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d you see the scribes who had gone into the te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98328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5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4280" y="1214280"/>
            <a:ext cx="54295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ζητω την μελλουσαν βασιλεια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ουσα εἰδεν τον πατερα αὐτη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αλουντ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greeted the approaching crow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she saw she believ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harisee taught the Jews who we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iste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 king heard this he sent his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ldiers to find the chi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29320" y="131292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am seeking the coming kingd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714920" y="18032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fter she departed she saw her father spea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45160" y="27036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Ἰησους ἠσπασατο τον προσερχομενον ὀχλ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759200" y="3625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δουσα ἐπιστευσε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4772160" y="41148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Φαρισαιος ἐδιδαξεν τους ἀκουοντας Ἰουδαιο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4729320" y="506088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ς τουτο ὁ βασιλευς ἀπεστειλεν (ἐπεμψεν) τους στρατιωτας αὐτου εὑρειν το  τεκνον (παιδιο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6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4 OTHER USES OF PARTICI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2920" y="996840"/>
            <a:ext cx="542916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ιλειτε τους μισουντας ὑμ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Μωϋσης ἁγιος ὠν ἐλεγεν τῳ θε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θελω εἰσελθων εἰς τ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υναγωγη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ι του ῥαββ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εγον ἀλληλοις περι 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γενομεν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aw the ones carrying the sick m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epart and preach the gosp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786200" y="141444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ove those who hate y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786200" y="1878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Moses was holy he used to speak to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786200" y="281628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want to go into the synagogue and listen to the Rabb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786200" y="3759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ere speaking to each other about what had happen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786200" y="467352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δον τους φεροντας τον ἀσθεν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786200" y="51735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ing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ων κηρυξον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l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οντες κηρυξατε το εὐαγγελ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6:38:41Z</dcterms:created>
  <dc:creator>Sarah</dc:creator>
  <dc:description/>
  <dc:language>en-US</dc:language>
  <cp:lastModifiedBy>Sarah</cp:lastModifiedBy>
  <dcterms:modified xsi:type="dcterms:W3CDTF">2008-09-30T20:26:46Z</dcterms:modified>
  <cp:revision>22</cp:revision>
  <dc:subject/>
  <dc:title>Slide 1</dc:title>
</cp:coreProperties>
</file>